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3A9-4FC0-4C0C-9134-A892DB8A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681-B1C1-4EC5-84EE-90128C8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94B-C376-4E68-9C8A-070B1FD3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607-D1AC-40AF-B821-56D28CE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9ED-F0E5-482F-BD62-CDC289E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DC6D-EA07-46E4-91D5-D96A320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C84E-57AA-4EB6-B962-914E1EB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E01-5D83-4406-A606-D9E02532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0958-2983-4289-A53D-C27630D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3EB9-D46E-47A8-A219-957F6FEE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F539-02F3-4320-9BD9-997E376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CC0-9568-433D-838E-975DE32B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D43A-8B29-4A07-BE87-2C621166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0B54-A58A-4753-90CF-756A87A9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A5E-FFE3-4D2D-ACA5-79A607D6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F84-F7F0-4074-A6E2-30D7A0E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31A7-CAB7-418C-83F7-713EADB0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03CF-9313-4214-89A4-C0A1D7CF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3476-E25B-4D20-9DF1-B92878E2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8F33-C99E-40D4-A856-1481FCA4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4F0E-85C7-4CD0-BCDC-F279C57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96CC-2E44-47E2-ACF1-FC03EE20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06A-649F-4B75-BDBD-F76E65B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5C87-3AC1-4BF7-8FF3-161B3DD9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FDD4-75B3-433A-BD09-6DB6DB6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8FE7-6BE8-493D-A883-782A4FE1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D4D1-30FB-45BE-9099-42D13BA5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A0AC-03C2-41BB-BFFF-8A7B2856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A9BA-DFC3-4BDC-AC1D-7E6CC49B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0E70-E3F1-40D4-A680-932FFEF8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3C44-BE04-423A-8382-6E4B6907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DD34F-5A97-4E58-ACCC-D7677D6D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2521-607E-4C55-8779-035CB5D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9CD-E72A-423D-8CC4-A729C72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5DBD0-61E6-470E-BD7E-AAA86B59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1117-E9DC-4C41-AC85-F26DB8D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62BC-5BCA-4BE7-820F-AC063E5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E9CE-575C-4418-A4B9-2D04B18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84D6-967B-44A2-B2C0-E759CC48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31FF-8431-46B8-B6B4-C656AEC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3A49-4C46-44D8-A4D5-CD0E91A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2900D-FE4B-4301-8729-50775C2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8906-158E-412E-B80C-4D60C66C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E843-B1A8-4C06-8ED0-B80DCFE5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71D2-26DF-4D55-9D7A-FE0B0674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3F41-A648-42FF-921C-F607DA69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43FF-2FC9-4918-BCE5-5083F7CE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10EB-9EB7-4AFF-8B73-848FCF4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A400-F8AB-46A7-B7AD-F0165D7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00D8-66E3-4B8B-9E57-C76BDC3D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BA2E-7071-4E6A-A3FB-0D984694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A4836-2FA1-4852-9C02-37C6E96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06E3-6667-455E-ABC3-C64D01D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FA8DB-E9FF-479A-900F-A1144F50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8740-9FCD-4DFC-9A27-E3ED4AF9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50A-37EC-499C-A0E5-ED2CFDCB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956A-048B-4536-A1E0-D6C1F66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4DBB-0CBF-4CBD-B27B-4D67E284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E861-4068-447C-8CE8-E631800E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51C1-D7F5-408A-9CC5-CE68DA3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4AF45-3783-4A61-974F-8C56D1DD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656B8-00DA-4024-B89C-89CE789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0668-818C-49ED-BDFD-4ACF07E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3BC5-7E5C-4C06-AD4B-EC35329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639DA-A6DF-4ED6-9E61-53C3015B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C31AE-787E-4D56-9D4A-45E6F6D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9E1-9F47-4892-A878-FEB4E1F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7181-D259-4118-B3CF-8F4A2139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F7271-0AB5-434F-BA5E-E08B21C4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4EE2D-22D9-4FAA-B975-7D903406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9945-1D0F-4597-BE8E-65158EC1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2797-BDA7-4AA6-8D3B-6DC09A1D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78229-970A-42AD-A6A6-575023F5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60B5-D3A6-4D78-ABB4-CDEB267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55D9-5490-49E6-9B48-AFFB1A2F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40270-91DE-4966-A01B-1322AE1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A5F64-9391-4EEF-98B2-6CB783B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36F-8352-41E6-A664-BE2B502A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F9F1-2073-4445-931D-19D5D30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4F160-FA07-4184-9C36-FCEB28F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9539D-1881-4D69-9CF9-EF569CEB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DC3F-7161-4FF4-B35E-8B825290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0344-CEED-4966-9529-A6CCFCD5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62A-2D31-4495-A5B2-343CDBB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946C-9D20-4958-8833-249204D4003F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43F-A4A6-46B2-9105-67F94774A26A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7598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606c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626d8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698-3B10-4EED-9833-8E01DD094270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AF43-B551-4A4E-83C2-060171D7E78A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626d8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C20-B884-46DB-930F-5061ABD85908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E8F-67CD-4DC2-8A44-5380ECA679D2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87b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598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598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b32c1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05DA-7EEF-43F7-B284-A2BE4E16250A}" type="slidenum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etcode.com/wxpython/introduc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s.berkeley.edu/~flab/languages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785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2f2f2"/>
                </a:solidFill>
                <a:latin typeface="Corbel"/>
              </a:rPr>
              <a:t>Examples of incorrect variable names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76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trombones = "big parade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starts with a number 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more</a:t>
            </a: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$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1000000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has the dollar sign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class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= "Computer Science 203“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Not good because the variable name used ‘class’ is a reserved word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ers (0, 12, 17, -20,…),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loats (0.0, 3.14, 6.02e23,….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or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+  -  *  /  %  (modulus or remainder)  ** (exponentiation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rings: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ything in double quotes”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Data Typ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“Hello World”) : &lt;type ’str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(10) : &lt;type ’int’&g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ssu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 1,000,000  :  1 0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 (names)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9480" y="15238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ed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and  - assert - break - class - continue - d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del  - elif  - else - except - exec - fin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for - from - global - if - import -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is - lambda - not - or - pass - pr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32c16"/>
                </a:solidFill>
                <a:latin typeface="Arial"/>
              </a:rPr>
              <a:t>raise – return – try - while  -y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Some practic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variable call it var1 and store the number 9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ate  a second variable call it var2 and store the number 1 in i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et the sum of var1 and var2 and store the result in var3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witch the values of var1 and var2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ery Importa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 nam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 (X is different from 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unction nam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!=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{conditions to be met}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do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and thi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ut this happens regardless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y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y == 1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y still equals 1, I was just checking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Comparison 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grater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less than or equa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less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 grater th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 differ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f statement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a =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a &gt; 5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shouldn’t happen.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se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‘This should happen.’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3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z = 4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f z &gt; 7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Something is very wrong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elif z &lt; 7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This is normal”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for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item 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in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container</a:t>
            </a: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# action to repeat for each item in the container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lse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action to take once we have finished the loop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Corbel"/>
              </a:rPr>
              <a:t>execfile(“forexample01”)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0" name="Picture 4" descr="African-Rock-Python-0004"/>
          <p:cNvPicPr/>
          <p:nvPr/>
        </p:nvPicPr>
        <p:blipFill>
          <a:blip r:embed="rId1"/>
          <a:stretch/>
        </p:blipFill>
        <p:spPr>
          <a:xfrm>
            <a:off x="16002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– for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wList = [45, 'eat me', 90210, ‘The day has come’, -67]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r value in newList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nt valu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execfile(“forexample02”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while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{condition that the loop continues}</a:t>
            </a: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what to do in the loop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92d050"/>
                </a:solidFill>
                <a:latin typeface="Corbel"/>
              </a:rPr>
              <a:t>{have it indented, usually four spaces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the code here is not loop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{because it isn't indented}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e636"/>
                </a:solidFill>
                <a:latin typeface="Corbel"/>
              </a:rPr>
              <a:t>Example0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x = 10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while x != 0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print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100" spc="-1" strike="noStrike">
                <a:solidFill>
                  <a:srgbClr val="ffffff"/>
                </a:solidFill>
                <a:latin typeface="Corbel"/>
              </a:rPr>
              <a:t>x = x - 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“wow, we have counted x down, and now it equals”, x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rint "And now the loop has ended."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Loops - while loop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Example0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“We will show the even numbers up to 20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n &lt;= 2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n % 2 == 0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 = n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nt "there, done.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xecfile(“whileexample02”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Important not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09120" y="1784520"/>
            <a:ext cx="8077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 condition in an if statement or a while loop can be a simple one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 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comparison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expressio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g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10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 if ( x%2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==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0):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while( (i + j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&lt;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(k * l - m)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Or  a mix of several simple conditions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 operator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…….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…………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..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logical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perat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ondition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age&gt;100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AND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salary&gt;100000):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(color == “red” 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OR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color==“pink”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goodstanding = true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If (</a:t>
            </a:r>
            <a:r>
              <a:rPr b="0" lang="en-US" sz="1700" spc="-1" strike="noStrike">
                <a:solidFill>
                  <a:srgbClr val="ffe636"/>
                </a:solidFill>
                <a:latin typeface="Corbel"/>
              </a:rPr>
              <a:t>NOT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goodstanding)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o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040" y="1294920"/>
            <a:ext cx="38862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parison Operato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=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lt;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&gt;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!=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Box 3"/>
          <p:cNvSpPr/>
          <p:nvPr/>
        </p:nvSpPr>
        <p:spPr>
          <a:xfrm>
            <a:off x="4876920" y="1295280"/>
            <a:ext cx="36576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gical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The difference between </a:t>
            </a:r>
            <a:br>
              <a:rPr sz="3600"/>
            </a:br>
            <a:r>
              <a:rPr b="0" lang="en-US" sz="3600" spc="-1" strike="noStrike">
                <a:solidFill>
                  <a:srgbClr val="ffff6c"/>
                </a:solidFill>
                <a:latin typeface="Consolas"/>
              </a:rPr>
              <a:t>for &amp; while</a:t>
            </a:r>
            <a:endParaRPr b="0" lang="en-US" sz="36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 =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while x &lt;= 4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x = x +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0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r x in [1, 2, 3, 4]: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um = sum + x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print su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orbel"/>
              </a:rPr>
              <a:t>Built-in functions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“something”, somethingelse ,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nipulating picture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t a picture from the internet  - Google : </a:t>
            </a:r>
            <a:r>
              <a:rPr b="0" lang="en-US" sz="2000" spc="-1" strike="noStrike">
                <a:solidFill>
                  <a:srgbClr val="0070c0"/>
                </a:solidFill>
                <a:latin typeface="Corbel"/>
              </a:rPr>
              <a:t>free pictures rock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makePicture, show, getColor, SetColor,…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762120" y="4572000"/>
            <a:ext cx="8229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cture = </a:t>
            </a: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makePic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“C:\\Documents and Settings\\aguerbas\\Desktop\\python.jpg"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636"/>
                </a:solidFill>
                <a:latin typeface="Arial"/>
              </a:rPr>
              <a:t>sh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picture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function with no parameters and no returned value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hello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"Hello World!"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hello(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It will print Helllo World!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# Simple Argument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 withParameters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):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print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txt+txt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hen you call this function using the interactive console like this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ithParameters(”Hello”)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is function will print the Hello 2 times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er Defined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# function with parameters and with returned value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 product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umber1,number2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sult = number1 * number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          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resul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value returned by a function can be stored in a variable like th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ariableName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product(2,3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variableNa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vious instructions can be in the same file where the function product is defined or can be typed in the interactive (black) conso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sult = math.log(x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nt "The log of x is", resul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is the nam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of a programming language </a:t>
            </a:r>
            <a:br>
              <a:rPr sz="5400"/>
            </a:b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as well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Using Built-in function</a:t>
            </a:r>
            <a:br>
              <a:rPr sz="4000"/>
            </a:b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math function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 using built-in math func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#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ing the return keywo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mport ma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de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printLogarithm(x)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if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x &lt;= 0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"Positive numbers only, please.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retur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math.log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</a:t>
            </a: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144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message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Good Morning</a:t>
            </a:r>
            <a:r>
              <a:rPr b="0" lang="en-US" sz="1900" spc="-1" strike="noStrike">
                <a:solidFill>
                  <a:srgbClr val="ffe636"/>
                </a:solidFill>
                <a:latin typeface="Corbel"/>
              </a:rPr>
              <a:t>”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The variable message has type String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 1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message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“Hello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lso the following operations are illegal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Hello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123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15” </a:t>
            </a:r>
            <a:r>
              <a:rPr b="0" lang="en-US" sz="28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String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ollowing operations are leg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banana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bakedGood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“nut bread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print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fruit 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 bakedGoo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peti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print  “fun”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3     </a:t>
            </a:r>
            <a:r>
              <a:rPr b="0" lang="en-US" sz="2400" spc="-1" strike="noStrike">
                <a:solidFill>
                  <a:srgbClr val="f2f2f2"/>
                </a:solidFill>
                <a:latin typeface="Corbel"/>
              </a:rPr>
              <a:t>it  gives you:  </a:t>
            </a:r>
            <a:r>
              <a:rPr b="0" lang="en-US" sz="2400" spc="-1" strike="noStrike">
                <a:solidFill>
                  <a:srgbClr val="00b050"/>
                </a:solidFill>
                <a:latin typeface="Corbel"/>
              </a:rPr>
              <a:t>“funfunfun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Operations on number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is   3   and 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    is   3    and  not 27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-1        is   5    and not 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          is   -1   and not  1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integer division: use decimals to get real numbers 2.0/3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rbel"/>
              </a:rPr>
              <a:t>To avoid ambiguity (confusion) use parenthesis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)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2f2f2"/>
                </a:solidFill>
                <a:latin typeface="Corbel"/>
              </a:rPr>
              <a:t>(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2</a:t>
            </a:r>
            <a:r>
              <a:rPr b="0" lang="en-US" sz="2600" spc="-1" strike="noStrike">
                <a:solidFill>
                  <a:srgbClr val="ffe636"/>
                </a:solidFill>
                <a:latin typeface="Corbel"/>
              </a:rPr>
              <a:t>*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)-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Things to remember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ython is case sensi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dentation is very important in J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e636"/>
                </a:solidFill>
                <a:latin typeface="Corbel"/>
              </a:rPr>
              <a:t>Steps to run a Jython (JES)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e your code (instruction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ad the code (you will be asked to save i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un the code either by using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execfile(“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ocation &amp; name of the file</a:t>
            </a:r>
            <a:r>
              <a:rPr b="0" lang="en-US" sz="2400" spc="-1" strike="noStrike">
                <a:solidFill>
                  <a:srgbClr val="ffe636"/>
                </a:solidFill>
                <a:latin typeface="Corbel"/>
              </a:rPr>
              <a:t>”)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omman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r by calling directly a function if you have one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structions are executed sequentiall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iece of code that gives you the number of days you have li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clude your name and a description of what the code does at the beginning of your python progra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converts temperature in Celsius to Fahrenheit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1)Take the temperature in Celsius and multiply 1.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2)Add 32 degrees. The result is degrees Fahrenhei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Exercise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rite a program that takes four different grades as input and gives you a letter grad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1: 90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2: 95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3 : 93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iz04: 91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output should be: 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1223640" y="556200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numbers are from May 200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1143000"/>
          <a:ext cx="6476760" cy="4159080"/>
        </p:xfrm>
        <a:graphic>
          <a:graphicData uri="http://schemas.openxmlformats.org/drawingml/2006/table">
            <a:tbl>
              <a:tblPr/>
              <a:tblGrid>
                <a:gridCol w="2158920"/>
                <a:gridCol w="2158920"/>
                <a:gridCol w="215892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a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isual Ba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.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er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.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yth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#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vaScri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u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.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79"/>
          <p:cNvSpPr/>
          <p:nvPr/>
        </p:nvSpPr>
        <p:spPr>
          <a:xfrm>
            <a:off x="5080320" y="6019920"/>
            <a:ext cx="29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www.zetcode.com/wxpython/int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c"/>
                </a:solidFill>
                <a:latin typeface="Consolas"/>
              </a:rPr>
              <a:t>Programming Languages Usage</a:t>
            </a:r>
            <a:endParaRPr b="0" lang="en-US" sz="28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77" name="Picture 4" descr="languages"/>
          <p:cNvPicPr/>
          <p:nvPr/>
        </p:nvPicPr>
        <p:blipFill>
          <a:blip r:embed="rId1"/>
          <a:stretch/>
        </p:blipFill>
        <p:spPr>
          <a:xfrm>
            <a:off x="1173240" y="1784520"/>
            <a:ext cx="7254720" cy="4572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4724280" y="632448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2611c"/>
                </a:solidFill>
                <a:uFillTx/>
                <a:latin typeface="Arial"/>
                <a:hlinkClick r:id="rId2"/>
              </a:rPr>
              <a:t>http://www.cs.berkeley.edu/~flab/languag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Consolas"/>
              </a:rPr>
              <a:t>Python</a:t>
            </a:r>
            <a:endParaRPr b="0" lang="en-US" sz="54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6765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ource (Fre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mple Synta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ell Document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d2611c"/>
                </a:solidFill>
                <a:uFillTx/>
                <a:latin typeface="Corbel"/>
                <a:hlinkClick r:id="rId1"/>
              </a:rPr>
              <a:t>www.pytho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Programming with Python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Constants and Variab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39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structions (Co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ssignment (=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If .. Then statem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Loop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…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J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pic>
        <p:nvPicPr>
          <p:cNvPr id="384" name="Picture 5" descr="Jes"/>
          <p:cNvPicPr/>
          <p:nvPr/>
        </p:nvPicPr>
        <p:blipFill>
          <a:blip r:embed="rId1"/>
          <a:stretch/>
        </p:blipFill>
        <p:spPr>
          <a:xfrm>
            <a:off x="1600200" y="990720"/>
            <a:ext cx="60580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c"/>
                </a:solidFill>
                <a:latin typeface="Consolas"/>
              </a:rPr>
              <a:t>Variables</a:t>
            </a:r>
            <a:endParaRPr b="0" lang="en-US" sz="4000" spc="-1" strike="noStrike">
              <a:solidFill>
                <a:srgbClr val="ffff6c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Variables are names for data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Examples of good variable names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age = 99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rovince = “Alberta”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x = 1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y = 32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gasprice = 0.95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pi = 3.14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28:39Z</dcterms:created>
  <dc:creator>Information Technologies</dc:creator>
  <dc:description/>
  <dc:language>en-US</dc:language>
  <cp:lastModifiedBy>aguerbas</cp:lastModifiedBy>
  <dcterms:modified xsi:type="dcterms:W3CDTF">2009-03-20T01:33:42Z</dcterms:modified>
  <cp:revision>108</cp:revision>
  <dc:subject/>
  <dc:title>Slide 1</dc:title>
</cp:coreProperties>
</file>